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E52-4867-48F0-BBC3-6FF40C0F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3A9-B6FD-4127-90F6-A685ADE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54270-40BB-46FC-B827-41A10008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41311-FC87-4C69-8218-DD70F820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86F2D-0B37-4361-9640-18A609BD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AC540-8784-48CB-8C9B-15D544E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24DDC-A2F9-4E87-A2B3-57599B9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8DF2B-590B-4BB6-9D2E-AA6E584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B0C58-484E-4F3E-BE22-8CD129C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27886-1466-462F-8C9C-A1B55C92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24A71-4C30-4036-AB0A-5D7CFDB7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38AF-4716-467C-A509-83D77C00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30E-7FF5-47AE-A4C8-86BFFEA9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4A40E-E785-4DE0-A506-D362897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9C3A4-0428-451A-B1A8-9078C6A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AB2CF-535B-485F-B105-D69BB759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F5D93-1D87-496F-9E50-74D20CAB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9BF54-896F-471A-9FC3-4C4EA95F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ACB50-1CC6-46DB-BF40-0541FF0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33263-4F44-45FE-AC8F-7F75116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55D8F-7853-4DEA-9CE7-567D7BA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5C21B-2DBC-4685-A211-87B7085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2D951-86A5-4C40-BC85-65D6B278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830-9D64-4343-A0B8-44A8E5FB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22B8A-B5B1-4571-86D5-2248FF24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A4314-09C2-42A5-A61D-19FD41E8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FE097-9147-4088-AACF-05D449E0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CB637-0FA3-448B-A67A-E774EEF2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F414-79B2-4C76-9EDA-8AF7C8BD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BAB40-D456-4551-852E-6A9609DF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30400-1B52-4099-A068-D7B96C5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CA388-0B5B-4150-B732-AE7DC0F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A196A-A4B4-4940-A334-5B360EC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CA62B-FF05-4229-A7FA-2B15D1F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2385-13E2-4740-82E1-DD94A9F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2284-921C-4F05-8C92-2703E04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7F778-CBE1-4312-A570-94D9EB72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B16DB-5E12-4155-B7A5-7C2D7FC8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93B8A-CB3D-408B-80E8-B4AD92A5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9E800-2BBF-4221-A969-95E834E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357B9-AA53-4B92-A423-EAA72286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70A73-CAAB-4768-B063-09C5D9CE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74726-396F-420C-A3F3-803E950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37FDD-ACB2-4699-91BB-9F2656CC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5E41B-9C4E-4702-A80F-A43F4FCB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47AB-9E68-46D4-AB64-2555D84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90F74-DC71-432F-9D52-D700ECF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B1BEE-CFA0-456A-97B6-1A225AD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5364-2BBE-413F-AF69-36BCE0AE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B1983-3263-45B4-BAB4-FBC3ABF7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EFF46-B092-4B92-8CB2-CD9CA16F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C9C38-7594-4F07-89F0-4009C83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40909-3868-44FD-8341-06136227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92E04-ABB6-48B2-A751-F561C4B4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2B95E-6936-497F-86B9-E92B8141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AEEE2-97E1-4395-9EE6-EFB17C91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72B-0ADC-417F-8878-0B60C77A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320EB-575C-4011-BA99-8083B33E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F219C-38CB-4EF8-90C2-32D65ED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3A2D3-1CA5-42D0-992B-89A9D03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5A100-3B26-4EF3-9836-890D46B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31051-2656-4BDF-A226-98A67081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7BA7E-ED7F-4B6E-834F-5F0CF9C9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25E29-0C99-48FF-9B92-7ED58A2F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0FAC4-886E-4AC6-A02D-58B6CD96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7DA35-6CB5-4D5D-B6D8-668C491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3ABDC-B3DC-4876-A53B-759A4072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86CD-B829-4FBB-8C0D-5920596D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C1C68-47ED-44B1-98EE-35D4A860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AD2E9-566C-44E0-8CA8-0CBA2A6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9D8ED-54E2-497A-B797-763C6AD0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A36FD-37D1-4EDE-B597-09D2E15D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4B3B5-3697-4CC7-A2AF-E625CF8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1EDB8-CD4B-4B9B-8A03-18D793B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DE7A5-738C-4A20-B06A-7B79EB7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0C0C5-C8D0-4CB0-A43A-042092CF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00281-C963-4655-B611-DB52A6AD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3D2C9-AF4C-483F-A89D-0FF5C823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9476-30F8-4AA4-A344-0020AA3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60EB7-4605-4AD4-A461-A2F4A994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F208A-2E2E-4E2E-9312-53612BFC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F78F9-42CC-4983-8444-3AFD56E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7B99A-A661-4B79-BCE6-F50E448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5EF49-FDC8-413E-9562-F96DDE15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91487-5443-4266-A334-2E09A95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8EA78-B099-42AC-BB98-35BB04C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78A20-298D-40F7-8990-0AAA01D9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116A0-67C5-4027-A017-6C37E7E4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3E70A-07B0-41F1-9E9B-67933B0B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846F-0766-444B-9185-06AB59B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51107-5E99-447C-895D-A8DF9FE2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10CA6-3501-44FA-BA79-3A5286E6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88B5C-D823-4570-BF5A-93A20D94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33F92-06CB-41F3-8831-A8E0A3D5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E93B1-FEBC-423C-8D71-DAA0FC6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9500B-9E21-4ACD-9B68-7C8A681D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DF444-BFDB-483D-9031-1AD34C1F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F023D-75FB-4757-B1D6-7C2731D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F0FD7-F0A3-4BB6-AB72-EF2B8AF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10095-7A64-403B-AD86-48799A6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8AC5-D76D-474E-8450-4D35FED4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BD23C-4A3B-47DA-9D1D-3E7D2839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8FDDC-B000-4E0E-A829-9EB17E1E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3FF68-FDBC-4C9F-AC39-CF91E261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B5E2E-555E-4D7A-B1E8-0094DC17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6B013-4E0A-491D-9834-48F0BC10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FFD6C-E3F6-47B7-980A-B1AF27DE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67346D-5298-45A7-971E-BB47859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C6A8A-6932-49F6-9B46-A90D168C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F4780-85D3-4C4B-B5C8-10ED80C0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653E9-55D9-40E1-9446-BCF00AE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8BC-F4AB-452D-BF8D-AEE182CB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B15A-CA70-4EC8-A706-BFE4A39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69205-99CC-4665-851A-22EE261E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108DE-4718-4777-8068-35102B62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71565-4149-496E-B6D7-C6F72B4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DEE11-67DF-47CD-8341-5AC8CE78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39EFD-2431-4A9F-9781-1DBD3DF3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A9176D-D0B3-4683-AA4F-E48FA278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15E2A-D93F-4F58-8596-D29F185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BCB05-E623-4C9C-8E89-7419B599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CE74A-D478-43E5-8F6C-3163D65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461C4-7404-49E8-97CD-03005F6B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FD8-911C-4C16-A601-46CAB09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BB4DF-D1A0-46EA-97AA-80BEF490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982E3-8231-47CA-9302-F3207549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144E5-217A-49F1-86F4-A16AF32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2592E-D46A-4A95-A67F-2315052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B47B9-7C6E-42B1-AAE5-78AAF708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B5A5C-5E13-4B9C-9D76-DF716D45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0F10D-E181-48C6-9C5F-82156B75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B4012-B7F4-4241-9F7D-BC25565A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39FA8-8A2E-45E8-BE2B-DAAD1FB1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434E2-CB84-4E74-B984-8D9A4B9B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30E4-8EE7-4C20-8C6F-7EC85777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ACA9C-4401-461C-8109-3C9A090F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17A27-E748-496B-8704-BEC97DB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9BB6F-0FE3-4593-8B94-DF3062B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C4889-D1F2-4B77-813F-5C0BA46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611831-4A8E-43A2-A573-317C0E5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B0B11-1304-4740-BAB0-673E9647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1C402-2681-4D44-B3C6-7DB2F72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EC0F8-6F27-4F75-9420-BD552076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E68E5-BE49-4297-8704-C3F27E7C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9557F-4755-4D99-AD87-337FDE4D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398-D28D-4A7B-A524-13AE7A10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D66C2-6841-4383-818E-6CFEC7F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2083F-70EC-4C7E-8173-2A821274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04DDA-8315-497D-9773-AE8F0397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80E7D-5590-46EE-A967-AC8879A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D1327-13A0-4A9C-BCC2-3E46ABED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3AE2B-1AB4-4C81-A965-A2945B8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9CF47-B558-44BA-B577-E58E0E4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9A718-D78F-4422-B404-A8D03A9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526B7-C164-4C24-B65F-3E2193A4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223A4-BFFE-4D2D-9C14-73BD3B54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7241-215D-4613-9F9A-27003611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D0616-BBF9-4436-85EB-8EBAB2F8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3E6ED-1B3B-47E5-AA4C-DC38F8EA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520C64-8E9B-4C47-9A1C-368F1BF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4C03E-2483-49E2-B8B0-99567E50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4E5DD-B5D6-472F-BA70-9434CFD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4F0A5-0B08-4FB3-9F61-4F0E2122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A3A9F-C401-4798-A70E-ED80D75F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1400E-261F-46EA-A565-F28506C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A4002-FA10-4C65-B667-594D969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B5AE6-D423-4A9A-BDB4-5F13CEEF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D8C3-6044-4E32-9563-CD8737F8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37C9BF-6C5C-44BC-AF8E-4DD161E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6210A-E843-423E-B578-C42DB54E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7BCBB-F648-482A-AB85-484431A9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D5534A-D0D2-47A8-A178-E540B245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CDFAD-52B6-44C5-9CD6-CAD554B4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89C0C-3A60-48D3-8C0B-0A02BDC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F29E6-92AB-4C6E-9891-09007A8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500E1B-884C-4AE7-A7F6-3B6F685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90E56-A34D-4A0F-A352-0A3C7C47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DC93A-409A-43CD-86A9-EFBF6EB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8AD6-13CD-4C0B-9515-06518FAF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8F32C-02C7-409E-96EF-F3814FF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D89403-4AE2-436D-8539-E8A02C2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619EE-700D-4A41-B242-741F4011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C162A-27BD-4909-B3FF-C43375E0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B59C2B-F633-4AC0-B8DE-ACC3D620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DB52F-AB12-42C4-944D-FC652D83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E639AA-3D9F-4F38-8D62-E524FA47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0AC202-A9C1-49CA-9BE7-F32BD89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B373CD-F39A-4BC2-B79F-8A172B40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1CE7BE-7F2E-416F-ABA6-44EDCD9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6BF3-FFD8-490F-B94C-8E27910D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A229B7-ED42-46B4-896A-7770CB06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80B62-AFA8-4AD4-A352-778A98A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2A8611-8A0B-4C8D-9C69-510CF868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EE061C-7C58-439B-BB47-11E4087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B740D-628C-4E69-B441-874131DB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C9E6B0-6755-4BBF-86A5-1E7FA129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F784B-F4FB-42FE-8D6A-F618068E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A014FE-3BDA-45E1-84FE-25FB5A8B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6D713D-72DC-4FBB-86DD-0D7035A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3DAE42-7027-48E9-8A87-2BB3B2AA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3D28-733A-4F89-AE15-7876C8CC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D6C2BC-F43C-4CCD-A980-6627B94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D23B08-A7C1-4BB5-BF1C-09CAF394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6EA4B4-6BA3-4773-AB55-0800806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D03EA-E96C-4516-B126-B66E4C3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EF0C9A-1393-4A4B-977A-D7999039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922150-6150-48CA-B024-A9025FE0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694F0F-15F9-4542-BEBC-D2264002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96EB7-6BF5-4C06-BC2F-CEB988B2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44D2AF-A8E6-4766-B2AD-D47417D3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2E316C-5606-40D7-B70D-88331150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A7E9-D32E-43C5-A7C2-C6FC792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3AE05B-2834-47DD-9ECF-3D7DD12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2EF95F-DDC3-4AED-A14D-764D89F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B07A9A-709D-4D71-B94A-F18F591E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C5E1C3-6328-4305-A891-258869B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CBD8D0-A91F-42B2-8534-10061493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9C1D22-4916-48FF-AE7C-57A5ADA2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D662F8-FD46-457A-8DE1-5740C8F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2F435F-D70B-4A4F-914F-2E0288D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C77B4-A4EB-4284-9758-B981CC75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897CFD-58A5-4D0A-95B1-4F5C50D2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DE2-D2A1-4D37-9A48-F5407AAC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43BC-73BE-4510-A463-13B443B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AF5A93-CA00-48D6-8D4E-8322184B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025E4D-E405-4606-AAAF-F6BFBBC1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76964A-A1BE-4718-B40A-9AD4A95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87C9A0-9DA5-403D-AC7D-941C404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03F981-64FC-4C46-9727-74F764C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208CB2-84D9-4648-ABBB-ACB9D0B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74982A-5CFC-4CDC-93FC-DDC939EF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00A8B2-058F-4651-9AB3-70A1D28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052295-AEC2-4412-9081-3457B5A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4701ED-2ECC-4803-A4D0-1A12E78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9D2C-81E2-4DE9-9888-5E3551F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A40A1-92A2-4341-B2F0-908588D2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E4A13E-F71B-4CF1-A3E3-15FA2836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2641F0-3BF9-45F2-92AE-21D77F71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069DE5-EC6E-42D9-8814-6C805E78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B9962C-06E4-4899-BAF9-4A00082A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87C93A-36D1-4352-91AE-F791ECB3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C8FDF8-6BA4-4988-809C-E35C492B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F39EFE-7AF1-48AE-B083-C746AF47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7DC10F-DD3A-4D2B-8C3B-31D41F2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B59A70-0A6B-4ED9-9E86-82E1FBC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03F7-8692-4435-BB36-4BCB4F1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291036-E87C-4FCE-AD0B-051D2EB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0AE339-B68C-4B31-B7E5-6F7DF28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F92EFC-66A6-4E42-9D3A-9568F32F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CA501E-0030-49DC-8AA5-AF3550A6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3D49F7-8600-4962-A4F2-2C8C2CA5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DF56-9B2E-4940-AD38-3C11FE77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95F8-74D8-4B21-8384-6E33AF4F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1DE6-10D5-47C4-A6C1-0D30A098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8D29-C1CA-49A9-8DBE-B576E56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4DAB-3981-4E64-A306-5A56D5E5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274D-402F-4C48-8D25-CF568F8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F7C8-749E-49C1-9461-E3822F8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4E5-25BF-4911-AAA3-8528A50B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D740-7966-49A9-9509-58FC8CB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DFA1-C89C-4A57-9450-ABD1072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8047-FF0D-48BF-8B6E-7460540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0884-6561-44C0-BD99-28540AA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C11E-2A32-41D5-8F43-08DD4C2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DB06-6EF0-4391-9A62-D19FD24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11CD-4F44-4FF8-984D-D065B98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7E48D-2B80-4FB4-8D42-84B219F5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C009-8994-4CF2-A214-15244F11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837F-157D-4DEB-93D5-5CC03F4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FD0-1EC8-4529-A14D-2ABB174C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6617-4ABC-4C77-8E68-B622997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BBE0-D1C7-4CC8-BEA4-9C72519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8E79-66BC-477E-92E2-E4D72D9A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C602-E61F-497C-87A6-63A34D82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4035-A060-491C-A024-C18067B0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E237-0A44-4A78-8D6A-347E8F2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2873-3A8D-4FF0-9F48-7694F55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B47E-2982-484B-88EA-4FC10DB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8C91-49B1-45CB-872D-9C13EC8B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8492-B5A3-4856-A5A8-BA6B2211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8A4-97CA-4D15-BFCB-87B12E5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01BE-56F1-493D-B2FB-4DFA54DB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9B3F-A8EF-4BC0-9B78-1FD198C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DD62-1D91-4D1A-9283-3550CC85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8EFE-609B-4A9D-931D-729F6E23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13D0-29E3-46FE-BE7A-EB2D6B3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A267-C044-45F5-83E3-6BDF30F5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B945-41E0-49FB-8176-1C5DE34A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0F72-6FA8-45EA-9F60-911A5E6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D5C20-09A2-48DF-9F0A-1C9CE81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A83B1-1292-4C17-8D09-A5A7BC3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7AA-26CA-4433-B5E4-EE0BB85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3979D-3FDE-4A70-9264-2EBBFE1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16C8-1B6E-44EB-8A66-B11A62DA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2926-E3FF-4F3F-9009-27CF04D6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F7D2-8220-4B6B-8AB7-FA85C672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FCC2-4A5B-4C1B-86E8-9A3592B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D9A4C-D51F-4C63-A774-CA0E08A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668D-6E67-47C7-ABD6-55262E6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A1C0-FD7B-4075-BAEC-D91E3AE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F896-86F6-4427-AE49-174BA32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701B-65D6-4218-82BF-D6CCE8B0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40B-15CF-4236-AF92-D564E05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2EF1A-F181-4CA9-B11C-DC86A7E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EC3BD-B088-463E-A0F9-3514E9D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C171-FA14-4545-9C61-33417328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CB56A-3112-4C08-926E-98A6C7AE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C704-43C3-4F42-A313-1D3EFA12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C8950-1358-4DD9-A02F-885ED60E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0F999-5176-462D-8993-22E7C3BE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2E53-3D1C-4014-BB5F-2C64F37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C4666-905F-49E5-ABA3-C055ABB3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1C3B-FDED-4FBC-81FD-1060559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871-0586-48D3-99E7-E6C2AA1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4774-2EEE-4E44-ACED-1B31E09C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7D335-BEB9-4896-BBFD-B0408A0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67713-BF89-4D98-844D-2A659B6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5D1E-6DA1-4C31-AFB8-35BBEE1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A714-15B1-4E7A-9870-EB13345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14367-C848-463B-8454-ECFC647F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8442-360E-4D1C-9469-5ACFF6E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2C4DB-94DA-4B26-8ABE-AFC3FC1F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348D1-4AF4-415D-94EC-5143FE1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BCD41-B95C-4906-999D-8431F460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E95-529A-4903-93EB-4404E9587B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0FA9-D482-411D-A5BC-50002598B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BC8-D0A8-45DA-AB17-80BD5BD94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F333-DCF3-42FE-AF12-43D436263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173E-6E00-4BD5-9814-00DB14BD5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5129-03F4-4B71-93EC-38FD00D82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E358-C796-4639-90BA-6EA5D63AD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5DD-4C40-41B7-A7A3-23E5F2986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9FA-2999-4A56-B08E-5B7B3EB39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4018-A0AF-4233-87AB-9371F5B9E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6D34-6707-44E4-9BE7-2B3CF2C63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B75-D574-483E-9ABC-56BB6A7864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9611-CB7C-4AD9-AD23-0DA21806E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6019-53BF-415F-A113-7BA5B33FE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E501-A835-46AC-9C6E-60290484E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A88-F947-424B-972D-66D7E4CBD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D03-D4AC-4C2B-BE66-A2068A224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EB03-0215-4593-BBB1-6E06865A6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AD03-1EF4-4AAF-9294-5D8639C1E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AF00-370B-4184-8E98-723065276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85B2-5CFE-4F34-9334-BA04F7302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EEA-0CFA-44F5-8B68-FBFF13CEC2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BDA-A065-4103-8933-9D38E92A42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B79-3196-4629-BA79-EE5C615DF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EE4F-5025-4A32-9628-6A5AB0487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48C-9A64-4894-836B-7CE853E04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A6F2-5188-475C-B956-088898821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image" Target="../media/image11.wmf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63;&#1090;&#1086;%20&#1101;&#1090;&#1086;_&#1088;&#1072;&#1089;&#1089;&#1082;&#1072;&#1078;&#1080;&#1090;&#1077;%20&#1074;&#1072;&#1096;&#1080;&#1084;%20&#1076;&#1077;&#1090;&#1103;&#1084;.wm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09" name="TextBox 3"/>
          <p:cNvSpPr/>
          <p:nvPr/>
        </p:nvSpPr>
        <p:spPr>
          <a:xfrm>
            <a:off x="684360" y="69228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на Забав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еловек на асфальт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4" descr="http://deti-birulevo.3dn.ru/_si/0/90415262.jpg"/>
          <p:cNvPicPr/>
          <p:nvPr/>
        </p:nvPicPr>
        <p:blipFill>
          <a:blip r:embed="rId2"/>
          <a:stretch/>
        </p:blipFill>
        <p:spPr>
          <a:xfrm>
            <a:off x="-15840" y="0"/>
            <a:ext cx="9217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3" descr=""/>
          <p:cNvPicPr/>
          <p:nvPr/>
        </p:nvPicPr>
        <p:blipFill>
          <a:blip r:embed="rId2"/>
          <a:stretch/>
        </p:blipFill>
        <p:spPr>
          <a:xfrm rot="19536600">
            <a:off x="6516720" y="3645000"/>
            <a:ext cx="2008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11574 L -0.3382 -0.28357 E">
                                      <p:cBhvr>
                                        <p:cTn id="98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3328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20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Picture 4" descr=""/>
          <p:cNvPicPr/>
          <p:nvPr/>
        </p:nvPicPr>
        <p:blipFill>
          <a:blip r:embed="rId3"/>
          <a:stretch/>
        </p:blipFill>
        <p:spPr>
          <a:xfrm rot="1387200">
            <a:off x="6803640" y="5013360"/>
            <a:ext cx="194472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4" name="Object 5"/>
          <p:cNvGraphicFramePr/>
          <p:nvPr/>
        </p:nvGraphicFramePr>
        <p:xfrm>
          <a:off x="3348000" y="404640"/>
          <a:ext cx="360036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404640"/>
                    <a:ext cx="3600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6"/>
          <p:cNvGraphicFramePr/>
          <p:nvPr/>
        </p:nvGraphicFramePr>
        <p:xfrm>
          <a:off x="1979640" y="1844640"/>
          <a:ext cx="66672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844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7"/>
          <p:cNvGraphicFramePr/>
          <p:nvPr/>
        </p:nvGraphicFramePr>
        <p:xfrm>
          <a:off x="3419640" y="2781360"/>
          <a:ext cx="666720" cy="113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81360"/>
                    <a:ext cx="6667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Object 8"/>
          <p:cNvGraphicFramePr/>
          <p:nvPr/>
        </p:nvGraphicFramePr>
        <p:xfrm>
          <a:off x="5508720" y="2852640"/>
          <a:ext cx="666720" cy="113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852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9"/>
          <p:cNvGraphicFramePr/>
          <p:nvPr/>
        </p:nvGraphicFramePr>
        <p:xfrm>
          <a:off x="7164360" y="2492280"/>
          <a:ext cx="666720" cy="113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249228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4" name="Picture 10" descr="j0344856"/>
          <p:cNvPicPr/>
          <p:nvPr/>
        </p:nvPicPr>
        <p:blipFill>
          <a:blip r:embed="rId14"/>
          <a:stretch/>
        </p:blipFill>
        <p:spPr>
          <a:xfrm flipH="1" rot="1591800">
            <a:off x="324000" y="836640"/>
            <a:ext cx="1287000" cy="13680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"/>
          <p:cNvPicPr/>
          <p:nvPr/>
        </p:nvPicPr>
        <p:blipFill>
          <a:blip r:embed="rId15"/>
          <a:stretch/>
        </p:blipFill>
        <p:spPr>
          <a:xfrm>
            <a:off x="2050920" y="0"/>
            <a:ext cx="5689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-0.06203 L -0.49202 -0.15648 E">
                                      <p:cBhvr>
                                        <p:cTn id="133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787 L 0.10295 0.41481 E">
                                      <p:cBhvr>
                                        <p:cTn id="176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Rectangle 5"/>
          <p:cNvSpPr/>
          <p:nvPr/>
        </p:nvSpPr>
        <p:spPr>
          <a:xfrm>
            <a:off x="179280" y="247032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11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j0344856"/>
          <p:cNvPicPr/>
          <p:nvPr/>
        </p:nvPicPr>
        <p:blipFill>
          <a:blip r:embed="rId4"/>
          <a:stretch/>
        </p:blipFill>
        <p:spPr>
          <a:xfrm>
            <a:off x="3492360" y="54936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3" descr="j0344856"/>
          <p:cNvPicPr/>
          <p:nvPr/>
        </p:nvPicPr>
        <p:blipFill>
          <a:blip r:embed="rId5"/>
          <a:stretch/>
        </p:blipFill>
        <p:spPr>
          <a:xfrm>
            <a:off x="1258920" y="443700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4" descr="j0344856"/>
          <p:cNvPicPr/>
          <p:nvPr/>
        </p:nvPicPr>
        <p:blipFill>
          <a:blip r:embed="rId6"/>
          <a:stretch/>
        </p:blipFill>
        <p:spPr>
          <a:xfrm>
            <a:off x="4932360" y="4508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5" descr="j0344856"/>
          <p:cNvPicPr/>
          <p:nvPr/>
        </p:nvPicPr>
        <p:blipFill>
          <a:blip r:embed="rId7"/>
          <a:stretch/>
        </p:blipFill>
        <p:spPr>
          <a:xfrm>
            <a:off x="5796000" y="2276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6" descr="j0344856"/>
          <p:cNvPicPr/>
          <p:nvPr/>
        </p:nvPicPr>
        <p:blipFill>
          <a:blip r:embed="rId8"/>
          <a:stretch/>
        </p:blipFill>
        <p:spPr>
          <a:xfrm>
            <a:off x="611280" y="191628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77" name="Прямоугольник 3"/>
          <p:cNvSpPr/>
          <p:nvPr/>
        </p:nvSpPr>
        <p:spPr>
          <a:xfrm>
            <a:off x="2428920" y="765000"/>
            <a:ext cx="58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2" descr="http://wallpaperscraft.ru/image/romashki_cvety_polyana_solnechno_zelen_nebo_leto_34390_1152x864.jpg"/>
          <p:cNvPicPr/>
          <p:nvPr/>
        </p:nvPicPr>
        <p:blipFill>
          <a:blip r:embed="rId2"/>
          <a:stretch/>
        </p:blipFill>
        <p:spPr>
          <a:xfrm>
            <a:off x="-344520" y="-531720"/>
            <a:ext cx="948204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-27000" y="3348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1" name="Прямоугольник 2"/>
          <p:cNvSpPr/>
          <p:nvPr/>
        </p:nvSpPr>
        <p:spPr>
          <a:xfrm>
            <a:off x="34920" y="11160"/>
            <a:ext cx="698508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Земляничная поляна и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араллельной реальности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я чувствую себя 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довлетворён своей работой на уроке пол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Скала, по которой нужн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обраться до замка -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верен, что всё получилось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о буду стар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Классный кабинет 7 "Е"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увствую себя не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ё было сложно, я совсе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ичего не поня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Picture 8" descr="http://www.beesona.ru/upload/403/ec0fe4ef1370fb40f9e248f3abf50898.jpg"/>
          <p:cNvPicPr/>
          <p:nvPr/>
        </p:nvPicPr>
        <p:blipFill>
          <a:blip r:embed="rId2"/>
          <a:stretch/>
        </p:blipFill>
        <p:spPr>
          <a:xfrm>
            <a:off x="5789520" y="22320"/>
            <a:ext cx="3354480" cy="2369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0" descr="http://www.niceimage.ru/pic/201305/1280x800/niceimage.ru-52910.jpg"/>
          <p:cNvPicPr/>
          <p:nvPr/>
        </p:nvPicPr>
        <p:blipFill>
          <a:blip r:embed="rId3"/>
          <a:stretch/>
        </p:blipFill>
        <p:spPr>
          <a:xfrm>
            <a:off x="6066000" y="2508120"/>
            <a:ext cx="3078000" cy="22431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2" descr="http://i9.beon.ru/30/14/2621430/56/101695556/6school_28.jpeg"/>
          <p:cNvPicPr/>
          <p:nvPr/>
        </p:nvPicPr>
        <p:blipFill>
          <a:blip r:embed="rId4"/>
          <a:stretch/>
        </p:blipFill>
        <p:spPr>
          <a:xfrm>
            <a:off x="6167520" y="479736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7" name="Прямоугольник 3"/>
          <p:cNvSpPr/>
          <p:nvPr/>
        </p:nvSpPr>
        <p:spPr>
          <a:xfrm>
            <a:off x="2428920" y="765000"/>
            <a:ext cx="58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Рисунок 3" descr="C:\Users\Дом\Desktop\000000001_3659.jpg"/>
          <p:cNvPicPr/>
          <p:nvPr/>
        </p:nvPicPr>
        <p:blipFill>
          <a:blip r:embed="rId2"/>
          <a:stretch/>
        </p:blipFill>
        <p:spPr>
          <a:xfrm>
            <a:off x="6804000" y="3718080"/>
            <a:ext cx="2316240" cy="3116160"/>
          </a:xfrm>
          <a:prstGeom prst="rect">
            <a:avLst/>
          </a:prstGeom>
          <a:ln w="0">
            <a:noFill/>
          </a:ln>
        </p:spPr>
      </p:pic>
      <p:sp>
        <p:nvSpPr>
          <p:cNvPr id="1189" name="Прямоугольник 2"/>
          <p:cNvSpPr/>
          <p:nvPr/>
        </p:nvSpPr>
        <p:spPr>
          <a:xfrm>
            <a:off x="2268360" y="1674720"/>
            <a:ext cx="639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письмо одному из героев повести (стихи, проза, рисунок, даже музыкальное произве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3" name="Прямоугольник 2"/>
          <p:cNvSpPr/>
          <p:nvPr/>
        </p:nvSpPr>
        <p:spPr>
          <a:xfrm>
            <a:off x="2484360" y="1328760"/>
            <a:ext cx="70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самом главно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3"/>
          <p:cNvSpPr/>
          <p:nvPr/>
        </p:nvSpPr>
        <p:spPr>
          <a:xfrm>
            <a:off x="1619280" y="692280"/>
            <a:ext cx="741672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ое декаб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милосердия в рассказ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 Мурашовой «Класс коррекци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лосердию не достучатьс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тех, у кого души оби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войлоком равнодуш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гений Бага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6" descr="http://ugranow.ru/wp-content/uploads/2015/02/17.02.jpg"/>
          <p:cNvPicPr/>
          <p:nvPr/>
        </p:nvPicPr>
        <p:blipFill>
          <a:blip r:embed="rId1"/>
          <a:stretch/>
        </p:blipFill>
        <p:spPr>
          <a:xfrm>
            <a:off x="0" y="-603360"/>
            <a:ext cx="9312120" cy="77774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5"/>
          <p:cNvSpPr/>
          <p:nvPr/>
        </p:nvSpPr>
        <p:spPr>
          <a:xfrm>
            <a:off x="507672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22" name="Прямоугольник 2"/>
          <p:cNvSpPr/>
          <p:nvPr/>
        </p:nvSpPr>
        <p:spPr>
          <a:xfrm>
            <a:off x="1403280" y="620640"/>
            <a:ext cx="77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лосердие – со-чувствие, со-страдание, способность помогать тем, кто нуждается в помо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70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5" name=""/>
          <p:cNvGraphicFramePr/>
          <p:nvPr/>
        </p:nvGraphicFramePr>
        <p:xfrm>
          <a:off x="2700360" y="765000"/>
          <a:ext cx="6340320" cy="5783400"/>
        </p:xfrm>
        <a:graphic>
          <a:graphicData uri="http://schemas.openxmlformats.org/drawingml/2006/table">
            <a:tbl>
              <a:tblPr/>
              <a:tblGrid>
                <a:gridCol w="5450040"/>
                <a:gridCol w="890280"/>
              </a:tblGrid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ина или лож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ра Мальков учится с ребятами из  7 "Е" с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ного руководителя 7"Е" класса зовут Клавдия Никола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бачок на границе реального и параллельного мира называется "Три ковбо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араллельном мире всегда весна-ле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могли попасть в параллельную реальность независимо от Ю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лизавета Петровна – завуч по воспитатель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 учеников-гимназистов с радостью пригласили Юру Малькова на экскур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олях Мишаниных конспектов был нарисован профиль Сте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 том, что Стеша пропала, Антону сообщила Л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г отыскать Стешу Вад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нце повести класс коррекции реформируют в общеобразовательны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TextBox 5"/>
          <p:cNvSpPr/>
          <p:nvPr/>
        </p:nvSpPr>
        <p:spPr>
          <a:xfrm>
            <a:off x="2556000" y="-1000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-л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9" name="Дорогой добра.mp3" descr=""/>
          <p:cNvPicPr/>
          <p:nvPr/>
        </p:nvPicPr>
        <p:blipFill>
          <a:blip r:embed="rId3"/>
          <a:stretch/>
        </p:blipFill>
        <p:spPr>
          <a:xfrm>
            <a:off x="474840" y="5703840"/>
            <a:ext cx="920520" cy="920880"/>
          </a:xfrm>
          <a:prstGeom prst="rect">
            <a:avLst/>
          </a:prstGeom>
          <a:ln w="0">
            <a:noFill/>
          </a:ln>
        </p:spPr>
      </p:pic>
      <p:sp>
        <p:nvSpPr>
          <p:cNvPr id="1130" name="WordArt 4"/>
          <p:cNvSpPr txBox="1"/>
          <p:nvPr/>
        </p:nvSpPr>
        <p:spPr>
          <a:xfrm rot="201600">
            <a:off x="334440" y="9000"/>
            <a:ext cx="835056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Wooden Ship Decorated"/>
              </a:rPr>
              <a:t>Дорога  доб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31" name="WordArt 5"/>
          <p:cNvSpPr txBox="1"/>
          <p:nvPr/>
        </p:nvSpPr>
        <p:spPr>
          <a:xfrm>
            <a:off x="1908000" y="2637000"/>
            <a:ext cx="539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2" name="WordArt 8"/>
          <p:cNvSpPr txBox="1"/>
          <p:nvPr/>
        </p:nvSpPr>
        <p:spPr>
          <a:xfrm>
            <a:off x="3276720" y="4724280"/>
            <a:ext cx="4916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3" name="Picture 9" descr=""/>
          <p:cNvPicPr/>
          <p:nvPr/>
        </p:nvPicPr>
        <p:blipFill>
          <a:blip r:embed="rId4"/>
          <a:stretch/>
        </p:blipFill>
        <p:spPr>
          <a:xfrm rot="19262400">
            <a:off x="395280" y="3789000"/>
            <a:ext cx="10796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6"/>
          <p:cNvGraphicFramePr/>
          <p:nvPr/>
        </p:nvGraphicFramePr>
        <p:xfrm>
          <a:off x="0" y="0"/>
          <a:ext cx="3305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30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8" descr=""/>
          <p:cNvPicPr/>
          <p:nvPr/>
        </p:nvPicPr>
        <p:blipFill>
          <a:blip r:embed="rId5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9" name="Object 10"/>
          <p:cNvGraphicFramePr/>
          <p:nvPr/>
        </p:nvGraphicFramePr>
        <p:xfrm>
          <a:off x="3733920" y="0"/>
          <a:ext cx="1676160" cy="685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0"/>
                    <a:ext cx="167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1" name="Picture 9" descr="j0344856"/>
          <p:cNvPicPr/>
          <p:nvPr/>
        </p:nvPicPr>
        <p:blipFill>
          <a:blip r:embed="rId8"/>
          <a:stretch/>
        </p:blipFill>
        <p:spPr>
          <a:xfrm>
            <a:off x="7164360" y="479736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6.2963E-006 L -0.48038 6.2963E-006 E">
                                      <p:cBhvr>
                                        <p:cTn id="58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-1.11111E-006 L -0.72448 -0.59838 E">
                                      <p:cBhvr>
                                        <p:cTn id="62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3"/>
          <p:cNvGraphicFramePr/>
          <p:nvPr/>
        </p:nvGraphicFramePr>
        <p:xfrm>
          <a:off x="6372360" y="333360"/>
          <a:ext cx="24922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33360"/>
                    <a:ext cx="2492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6" name="Picture 4" descr="j0344856"/>
          <p:cNvPicPr/>
          <p:nvPr/>
        </p:nvPicPr>
        <p:blipFill>
          <a:blip r:embed="rId5"/>
          <a:stretch/>
        </p:blipFill>
        <p:spPr>
          <a:xfrm>
            <a:off x="7451640" y="4869000"/>
            <a:ext cx="1354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1 0.0331 L -0.65608 0.04352 E">
                                      <p:cBhvr>
                                        <p:cTn id="68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00017 -0.5537 E">
                                      <p:cBhvr>
                                        <p:cTn id="7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-0.00902 L -0.65608 0.57894 E">
                                      <p:cBhvr>
                                        <p:cTn id="76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5537 L -0.6849 -0.5537 E">
                                      <p:cBhvr>
                                        <p:cTn id="80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0.57894 L -0.36458 0.25348 E">
                                      <p:cBhvr>
                                        <p:cTn id="84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8 -0.65856 C -0.21129 -0.65856 -0.06285 -0.4919 -0.06285 -0.28634 C -0.06285 -0.08079 -0.21129 0.08681 -0.39358 0.08681 C -0.57622 0.08681 -0.72431 -0.08079 -0.72431 -0.28634 C -0.72431 -0.4919 -0.57622 -0.65856 -0.39358 -0.65856 Z">
                                      <p:cBhvr>
                                        <p:cTn id="88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7 -0.65856 C -0.21145 -0.65856 -0.06284 -0.48935 -0.06284 -0.28056 C -0.06284 -0.07222 -0.21145 0.09745 -0.39357 0.09745 C -0.57604 0.09745 -0.7243 -0.07222 -0.7243 -0.28056 C -0.7243 -0.48935 -0.57604 -0.65856 -0.39357 -0.65856 Z">
                                      <p:cBhvr>
                                        <p:cTn id="9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7-02-02T11:28:26Z</dcterms:modified>
  <cp:revision>568</cp:revision>
  <dc:subject/>
  <dc:title>Diapositiva 1</dc:title>
</cp:coreProperties>
</file>